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10939680"/>
            <a:ext cx="360" cy="232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C32AE-5843-409F-A434-EA29BBA693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DABB8-ED22-48B2-ACD4-E5CCCAE5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BAA3-85A5-42FE-8D00-2876776B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6DC00-DA50-4277-8C05-03ACC4B641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830E1-FEBF-400D-A6F7-9761FC15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0BDA-EC9E-43EF-B4BE-519F0643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528AC-675B-4DA6-BE3D-1E9B6D85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7067-57A8-4ADD-ADF8-F8CE2A83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7520"/>
            <a:ext cx="8226360" cy="73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6EA5-CA32-48A3-B078-C018E769B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4A531-2CB0-467D-BDEA-6EB8B7DC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22A3F-8ACD-4D21-9F7B-2DD826D6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A0978-4E66-4282-A642-52793FE8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2628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157AD-5653-48F9-83D8-02CCE915DAE6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262699"/>
                </a:solidFill>
                <a:latin typeface="Arial"/>
                <a:ea typeface="Arial"/>
              </a:rPr>
              <a:t>I CONGRESSO EUROPEO DEGLI AGRONOM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262699"/>
                </a:solidFill>
                <a:latin typeface="Arial"/>
                <a:ea typeface="Arial"/>
              </a:rPr>
              <a:t>11-12 NOVEMBRE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262699"/>
                </a:solidFill>
                <a:latin typeface="Arial"/>
                <a:ea typeface="Arial"/>
              </a:rPr>
              <a:t>BRUXEL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PATROCINI – ORGANIZZAZIO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AF -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siglio Nazionale dei Dottori Agronomi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 dei Dottori Forest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DIA - Confédération Européenne d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génieurs Agronom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VIV - Royal Flemish Society of Engineer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Immagine 3" descr="conaf_LOGO"/>
          <p:cNvPicPr/>
          <p:nvPr/>
        </p:nvPicPr>
        <p:blipFill>
          <a:blip r:embed="rId2"/>
          <a:stretch/>
        </p:blipFill>
        <p:spPr>
          <a:xfrm>
            <a:off x="7236000" y="3517920"/>
            <a:ext cx="1258560" cy="54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archivi 01 lavori in corso\arch-x ord\2014\14 CEDIA\00 logo\cedia[1].jpg"/>
          <p:cNvPicPr/>
          <p:nvPr/>
        </p:nvPicPr>
        <p:blipFill>
          <a:blip r:embed="rId3"/>
          <a:stretch/>
        </p:blipFill>
        <p:spPr>
          <a:xfrm>
            <a:off x="7451640" y="4492800"/>
            <a:ext cx="720720" cy="66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archivi 01 lavori in corso\arch-x ord\2014\09 I Congresso Europeo\kviv_ie-net-banner-trans_0.png"/>
          <p:cNvPicPr/>
          <p:nvPr/>
        </p:nvPicPr>
        <p:blipFill>
          <a:blip r:embed="rId4"/>
          <a:srcRect l="0" t="0" r="73758" b="0"/>
          <a:stretch/>
        </p:blipFill>
        <p:spPr>
          <a:xfrm>
            <a:off x="7308720" y="5373720"/>
            <a:ext cx="11509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PATROCINI – ORGANIZZAZIO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Représentation Permanente d'Italie auprès de l'Union Européen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Presidenza del Consiglio dell'Unione Europea (semestre italiano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Ministero Politiche Agricole Alimentari e Forestali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Consiglio agricolo dell'Unione Europea (10 - 11 novembre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Arial"/>
              </a:rPr>
              <a:t>CEDI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585e0"/>
                </a:solidFill>
                <a:latin typeface="Arial"/>
                <a:ea typeface="Arial"/>
              </a:rPr>
              <a:t>Confédération Européenne des  Ingénieurs Agronom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585e0"/>
                </a:solidFill>
                <a:latin typeface="Arial"/>
                <a:ea typeface="Arial"/>
              </a:rPr>
              <a:t>European Confederation of Agronomists Associatio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ndata il 23 giugno 1987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rganizzazione no–profit 13 ottobre 1996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esi fondatori : Germania, Francia, Ital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esi membri: Cipro, Danimarca, Francia, Germania, Grecia, Irlanda, Irlanda del Nord, Italia, Portogallo, Spagna , Svizzera, Regno Unito,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Arial"/>
              </a:rPr>
              <a:t>CONTENUT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I Partenariati Europei per l'Innovazione (PEI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La direttiva qualifiche professionali e la tessera professionale europea (EPC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Il Piano di Sviluppo Rur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VI Congresso Mondiale degli Agronom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EXPO201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Mostra fotografica sui paesaggi rurali tipici europei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Mostra sulla storia del paesaggio agricolo nazion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Presentazione eccellenze agroalimentari italia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tente1</dc:creator>
  <dc:description/>
  <dc:language>en-US</dc:language>
  <cp:lastModifiedBy>utente1</cp:lastModifiedBy>
  <dcterms:modified xsi:type="dcterms:W3CDTF">2014-03-05T09:50:34Z</dcterms:modified>
  <cp:revision>10</cp:revision>
  <dc:subject/>
  <dc:title>Diapositiva 1</dc:title>
</cp:coreProperties>
</file>